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9A0-FD78-4AB0-BA61-1DA400A6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AC8-5F4E-4B3C-B05C-0595697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F51-714E-4F31-970F-68AA4AE0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9CD-1289-4CE2-B9F9-22F8B887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6BBF-41B6-4D7A-80B9-E6830436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AF53-D79F-4C59-8BE8-816CCE8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B993-7D53-4346-8010-7A55AB5D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7424-D1F7-4EE6-B07B-5BEFB522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8066-E9B3-40D2-883C-01D70875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B243-93A8-4486-BBB4-AD767FF5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FDE4-D524-4F23-B1E0-120741C4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EFC-A5DB-413C-B5FB-62CF849D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E53F-4B36-412E-BEA3-727817B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25D2-B30E-4FD2-A791-2046888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05CB-96A3-444F-9036-8BA3273D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9382-07CA-4D4C-8D4F-B2EC157C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3D6-2379-4BE2-9CA6-15CF4D0D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3781-FF9C-4A35-A0D0-4A975F78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8A88-F18B-4DE0-B2C3-ABBBD56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C891-D246-4E47-AAB7-53FDCB9C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17FC-9D78-47A5-B087-55C142F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9E64-04A9-471C-BA6A-72564DB0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831-65E2-40DE-81B9-6BB2FA42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4DA7-4EFB-4E71-8131-7CA4920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E794-5E8C-438C-9004-B23A304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4254-1583-4F49-A26B-8AD25E78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9798-E7DA-4536-BB1B-5B6CD605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FCE1-AE61-4205-9556-2404F209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6DCE-0B79-4CEB-AFD5-2435E059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5803-29CF-4DD6-BD29-CE0F81B3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6C7C-39AC-492D-8B84-D71DE6E2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127E-072F-470F-9462-A10E9059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F02E-5899-4E99-B670-9451FEF8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24F-5426-4449-A1C2-AA3FF1F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A2E81-EC0C-4297-8BFB-0B8D6A31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7FF1-4B2B-4963-A04E-980D3D36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B994F-ACCA-48F1-8A39-DFB71FCE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CEF6E-F92B-4FF7-B793-0A535AA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7767-712C-408A-8500-BFB7424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E285-B080-43A0-A4CB-1FAB231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CC4A-D19D-46E2-803D-AC47F5E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5BCC-70B2-43F0-BDD3-BA72AF5E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4118-493D-4ABC-8AF9-8EC1CB33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C57A-F623-4E2D-B80B-E5F31991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B81-2706-4EF9-BC8A-9A55B56B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636E-665B-4D91-93CF-079FC902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4F71-EDA1-4A73-804F-720FABAD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06AB-ADEF-41C4-9B23-0DF7132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78471-352F-4D33-95E0-68D2A27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94A6-934C-4290-B3BE-D0814686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9826-EACC-4CAE-BB05-B0193B2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15610-92F3-49E9-942F-3575905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9D32-C9CD-401A-B621-354AB2C7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B354A-22C0-4606-8F0D-E644841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2FC5-34DC-4BFA-A233-5DF60C5A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17F-4522-483B-9BB0-3EB171A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25BEE-2D15-4B35-828F-CD63981E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35AC-6C18-4460-AFDA-E8455EEB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0BC40-549D-48AF-9851-5719BBCB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E6F6-D596-4C19-90F9-EBFFC9C7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A4C0C-058D-4D8C-A0EF-A9DD71C0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834C0-0A5C-4F4F-B98C-402699B4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0765A-8108-4141-A194-7345B855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CECD-9C0E-48F6-95EA-25E0A05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FC1B-7981-4831-80F0-B35F34B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18D5-A17B-4C21-99E1-AA8E741B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906-F69C-4B0A-A932-013792E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5CFF-79EF-42B8-AA50-12294334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03E4-EB4D-46EF-ABCE-EC7CDA83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A106-EB65-4589-9000-1B1E6FEB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9F72-54B8-41EB-9A22-4C1F6154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CADA-7CC0-41DD-844B-EC785DED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F4BDD-4716-4EF8-AA4A-CFDC0E6C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105C-7235-46C0-A6B4-F4052E8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799F-DD54-4F72-8E66-FA95243F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8805-2C15-474B-9751-DC936B4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C601E-7D69-4C06-93B1-AD2725B6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AB6-96F8-4CE0-B4DA-47B93CBF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F085-9046-455C-80ED-63FFB707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A199E-8555-4A0C-8D70-0B1160D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771CB-A1C7-41BF-9A10-58DF65CE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C146A-5CB3-4F9A-AFE7-B66E39AC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874F6-F95E-4892-9AA3-FA14E307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680-0156-46A2-9FD0-C31B6ED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C34-FAFB-4DE1-81E3-068520343E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BA0-4EFF-4793-802D-6884378280D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4D12-9608-4818-8246-57FEE511EA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8145-0D8A-4940-867E-3A4A5A02DA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6E39-438C-45B6-90F1-323DABAA14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C715-8B75-4DC3-B25B-2C3A19EC8D8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399B-2970-4E55-83C7-7A85E93225A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889520" y="1212840"/>
            <a:ext cx="4125960" cy="277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371520" y="1212840"/>
            <a:ext cx="4309920" cy="27367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257040" y="4505400"/>
            <a:ext cx="798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звание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кружность мира перст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агоценный, а мы с том  мир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правленный алмаз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втор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деева Валентина Тимоф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Овал 4"/>
          <p:cNvSpPr/>
          <p:nvPr/>
        </p:nvSpPr>
        <p:spPr>
          <a:xfrm>
            <a:off x="3246480" y="2398680"/>
            <a:ext cx="2438280" cy="14968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Овал 5"/>
          <p:cNvSpPr/>
          <p:nvPr/>
        </p:nvSpPr>
        <p:spPr>
          <a:xfrm>
            <a:off x="927000" y="914400"/>
            <a:ext cx="2703600" cy="1511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реугольники и окруж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Овал 7"/>
          <p:cNvSpPr/>
          <p:nvPr/>
        </p:nvSpPr>
        <p:spPr>
          <a:xfrm>
            <a:off x="6440400" y="2166840"/>
            <a:ext cx="2703600" cy="1511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нтров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Овал 8"/>
          <p:cNvSpPr/>
          <p:nvPr/>
        </p:nvSpPr>
        <p:spPr>
          <a:xfrm>
            <a:off x="2590920" y="4816440"/>
            <a:ext cx="2703240" cy="1511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етырехуголь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" name="Прямая со стрелкой 13"/>
          <p:cNvCxnSpPr>
            <a:stCxn id="407" idx="6"/>
            <a:endCxn id="409" idx="2"/>
          </p:cNvCxnSpPr>
          <p:nvPr/>
        </p:nvCxnSpPr>
        <p:spPr>
          <a:xfrm flipV="1">
            <a:off x="5684400" y="2922120"/>
            <a:ext cx="756360" cy="226080"/>
          </a:xfrm>
          <a:prstGeom prst="straightConnector1">
            <a:avLst/>
          </a:prstGeom>
          <a:ln w="2844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412" name="Прямая со стрелкой 16"/>
          <p:cNvCxnSpPr>
            <a:endCxn id="410" idx="0"/>
          </p:cNvCxnSpPr>
          <p:nvPr/>
        </p:nvCxnSpPr>
        <p:spPr>
          <a:xfrm flipH="1">
            <a:off x="3940920" y="3882600"/>
            <a:ext cx="219960" cy="934200"/>
          </a:xfrm>
          <a:prstGeom prst="straightConnector1">
            <a:avLst/>
          </a:prstGeom>
          <a:ln w="2844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413" name="Прямая со стрелкой 19"/>
          <p:cNvCxnSpPr/>
          <p:nvPr/>
        </p:nvCxnSpPr>
        <p:spPr>
          <a:xfrm flipH="1" flipV="1">
            <a:off x="2980440" y="2306160"/>
            <a:ext cx="491400" cy="410400"/>
          </a:xfrm>
          <a:prstGeom prst="straightConnector1">
            <a:avLst/>
          </a:prstGeom>
          <a:ln w="28440">
            <a:solidFill>
              <a:srgbClr val="ff248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4"/>
          <p:cNvSpPr/>
          <p:nvPr/>
        </p:nvSpPr>
        <p:spPr>
          <a:xfrm>
            <a:off x="676440" y="277920"/>
            <a:ext cx="786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уголь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озникло понятие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дуга окружности? Хорда? Радиус? Диамет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описанная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вписанная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окружностей можно вписать в треугольни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окружностей можно описать около данного треугольни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ак построить окружность, описанную около остр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Как построить окружность, описанную около прям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4"/>
          <p:cNvSpPr/>
          <p:nvPr/>
        </p:nvSpPr>
        <p:spPr>
          <a:xfrm>
            <a:off x="887400" y="728640"/>
            <a:ext cx="7054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ырехуголь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Можно ли вписать окружность в четырёхугольни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В какой четырёхугольник можно вписать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Можно ли вписать окружность в ромб? квадрат? параллелограмм? прямоугольник? трапеци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м свойством обладают стороны четырёхугольника, описанного около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ожно ли описать окружность около четырёх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В каком случае около четырёхугольника можно описать окружнос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Можно ли описать окружность около ромба? квадрата? параллелограмма? прямо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пе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Каким свойством обладают углы четырёхугольника, вписанного в окружнос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В какой четырёхугольник всегда можно вписать окружность и можно описать около него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4"/>
          <p:cNvSpPr/>
          <p:nvPr/>
        </p:nvSpPr>
        <p:spPr>
          <a:xfrm>
            <a:off x="590400" y="420840"/>
            <a:ext cx="78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ов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ая точка является центром окружности, вписанной в треугольни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акая точка является центром окружности, описанной окол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Где находится центр окружности, описанной около остр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Где находится центр окружности, описанной около прям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Где находится центр окружности, описанной около тупоугольного треугольни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Как найти площадь треугольника, зная только радиус описанной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Как найти площадь треугольника, зная только радиус вписанной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Чему равна площадь многоугольника, описанного около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4"/>
          <p:cNvSpPr/>
          <p:nvPr/>
        </p:nvSpPr>
        <p:spPr>
          <a:xfrm>
            <a:off x="587160" y="2585880"/>
            <a:ext cx="83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Желаю творческих успехов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Группа 10"/>
          <p:cNvGrpSpPr/>
          <p:nvPr/>
        </p:nvGrpSpPr>
        <p:grpSpPr>
          <a:xfrm>
            <a:off x="930240" y="1951200"/>
            <a:ext cx="2559240" cy="2193840"/>
            <a:chOff x="930240" y="1951200"/>
            <a:chExt cx="2559240" cy="2193840"/>
          </a:xfrm>
        </p:grpSpPr>
        <p:sp>
          <p:nvSpPr>
            <p:cNvPr id="305" name="Freeform 11"/>
            <p:cNvSpPr/>
            <p:nvPr/>
          </p:nvSpPr>
          <p:spPr>
            <a:xfrm>
              <a:off x="930240" y="1951200"/>
              <a:ext cx="2559240" cy="2193840"/>
            </a:xfrm>
            <a:prstGeom prst="pie">
              <a:avLst/>
            </a:prstGeom>
            <a:solidFill>
              <a:srgbClr val="00b0f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4"/>
            <p:cNvSpPr/>
            <p:nvPr/>
          </p:nvSpPr>
          <p:spPr>
            <a:xfrm>
              <a:off x="1174680" y="2043000"/>
              <a:ext cx="1933920" cy="1859040"/>
            </a:xfrm>
            <a:prstGeom prst="ellipse">
              <a:avLst/>
            </a:prstGeom>
            <a:solidFill>
              <a:srgbClr val="ff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Группа 8"/>
          <p:cNvGrpSpPr/>
          <p:nvPr/>
        </p:nvGrpSpPr>
        <p:grpSpPr>
          <a:xfrm>
            <a:off x="5293800" y="888840"/>
            <a:ext cx="3531600" cy="3508560"/>
            <a:chOff x="5293800" y="888840"/>
            <a:chExt cx="3531600" cy="3508560"/>
          </a:xfrm>
        </p:grpSpPr>
        <p:sp>
          <p:nvSpPr>
            <p:cNvPr id="308" name="Freeform 15"/>
            <p:cNvSpPr/>
            <p:nvPr/>
          </p:nvSpPr>
          <p:spPr>
            <a:xfrm rot="18847200">
              <a:off x="6080040" y="1133280"/>
              <a:ext cx="1959120" cy="3019680"/>
            </a:xfrm>
            <a:prstGeom prst="pie">
              <a:avLst/>
            </a:prstGeom>
            <a:solidFill>
              <a:srgbClr val="cb3607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4"/>
            <p:cNvSpPr/>
            <p:nvPr/>
          </p:nvSpPr>
          <p:spPr>
            <a:xfrm>
              <a:off x="6437160" y="2309760"/>
              <a:ext cx="1417680" cy="146376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Freeform 10"/>
          <p:cNvSpPr/>
          <p:nvPr/>
        </p:nvSpPr>
        <p:spPr>
          <a:xfrm>
            <a:off x="3776760" y="3559320"/>
            <a:ext cx="2592360" cy="2232000"/>
          </a:xfrm>
          <a:prstGeom prst="pie">
            <a:avLst/>
          </a:prstGeom>
          <a:solidFill>
            <a:srgbClr val="ff569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4222800" y="4084560"/>
            <a:ext cx="1538280" cy="14018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solidFill>
            <a:srgbClr val="ff19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entury Gothic"/>
              </a:rPr>
              <a:t>Вписанная окружность. Описанный многоугольник.</a:t>
            </a:r>
            <a:endParaRPr b="0" lang="en-US" sz="40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11"/>
          <p:cNvSpPr/>
          <p:nvPr/>
        </p:nvSpPr>
        <p:spPr>
          <a:xfrm>
            <a:off x="649440" y="1144440"/>
            <a:ext cx="2414520" cy="2268720"/>
          </a:xfrm>
          <a:prstGeom prst="pie">
            <a:avLst/>
          </a:prstGeom>
          <a:solidFill>
            <a:srgbClr val="4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595440" y="1068480"/>
            <a:ext cx="2482560" cy="2390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3468600" y="3705120"/>
            <a:ext cx="2262240" cy="2162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10"/>
          <p:cNvSpPr/>
          <p:nvPr/>
        </p:nvSpPr>
        <p:spPr>
          <a:xfrm>
            <a:off x="3565440" y="3809880"/>
            <a:ext cx="1905120" cy="1387440"/>
          </a:xfrm>
          <a:prstGeom prst="pie">
            <a:avLst/>
          </a:prstGeom>
          <a:solidFill>
            <a:srgbClr val="e4005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611280" y="3627360"/>
            <a:ext cx="2101680" cy="21178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13"/>
          <p:cNvSpPr/>
          <p:nvPr/>
        </p:nvSpPr>
        <p:spPr>
          <a:xfrm>
            <a:off x="714240" y="3795840"/>
            <a:ext cx="1541520" cy="129384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156360" y="3849840"/>
            <a:ext cx="2271600" cy="2246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7068960" y="3884760"/>
            <a:ext cx="1236960" cy="2135160"/>
          </a:xfrm>
          <a:prstGeom prst="pie">
            <a:avLst/>
          </a:prstGeom>
          <a:solidFill>
            <a:srgbClr val="cb360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3825720" y="822240"/>
            <a:ext cx="4540320" cy="230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Описанная окружность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Вписанный многоугольник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1246320" y="357120"/>
            <a:ext cx="626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 вписать \ описать нам окружность счастья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795240" y="2703600"/>
            <a:ext cx="743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любую ли фигуру можно вписать окружн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оло какой фигуры можно описать окружн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Текст 2" descr=""/>
          <p:cNvPicPr/>
          <p:nvPr/>
        </p:nvPicPr>
        <p:blipFill>
          <a:blip r:embed="rId1"/>
          <a:stretch/>
        </p:blipFill>
        <p:spPr>
          <a:xfrm>
            <a:off x="176040" y="493560"/>
            <a:ext cx="1890720" cy="1695600"/>
          </a:xfrm>
          <a:prstGeom prst="rect">
            <a:avLst/>
          </a:prstGeom>
          <a:ln w="0">
            <a:noFill/>
          </a:ln>
        </p:spPr>
      </p:pic>
      <p:pic>
        <p:nvPicPr>
          <p:cNvPr id="325" name="Текст 3" descr=""/>
          <p:cNvPicPr/>
          <p:nvPr/>
        </p:nvPicPr>
        <p:blipFill>
          <a:blip r:embed="rId2"/>
          <a:stretch/>
        </p:blipFill>
        <p:spPr>
          <a:xfrm>
            <a:off x="244440" y="3786120"/>
            <a:ext cx="1919160" cy="1560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022480" y="290160"/>
            <a:ext cx="68580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ногоугольник называется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описанным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коло окружности, если 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А окружность -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писанно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39920" y="3489480"/>
            <a:ext cx="6640560" cy="29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кружность называется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описанной около много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 если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ногоугольник -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писанны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28" name="Группа 9"/>
          <p:cNvGrpSpPr/>
          <p:nvPr/>
        </p:nvGrpSpPr>
        <p:grpSpPr>
          <a:xfrm>
            <a:off x="6583320" y="1387440"/>
            <a:ext cx="1859040" cy="1630440"/>
            <a:chOff x="6583320" y="1387440"/>
            <a:chExt cx="1859040" cy="1630440"/>
          </a:xfrm>
        </p:grpSpPr>
        <p:sp>
          <p:nvSpPr>
            <p:cNvPr id="329" name="Oval 5"/>
            <p:cNvSpPr/>
            <p:nvPr/>
          </p:nvSpPr>
          <p:spPr>
            <a:xfrm>
              <a:off x="6744960" y="1455480"/>
              <a:ext cx="1500480" cy="1393920"/>
            </a:xfrm>
            <a:prstGeom prst="ellipse">
              <a:avLst/>
            </a:prstGeom>
            <a:solidFill>
              <a:srgbClr val="87bbff"/>
            </a:solidFill>
            <a:ln w="38160">
              <a:solidFill>
                <a:srgbClr val="ffffff"/>
              </a:solidFill>
              <a:miter/>
            </a:ln>
            <a:effectLst>
              <a:outerShdw dist="25445" dir="1469311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6"/>
            <p:cNvSpPr/>
            <p:nvPr/>
          </p:nvSpPr>
          <p:spPr>
            <a:xfrm>
              <a:off x="6583320" y="1387440"/>
              <a:ext cx="1859040" cy="1630440"/>
            </a:xfrm>
            <a:prstGeom prst="pie">
              <a:avLst/>
            </a:prstGeom>
            <a:noFill/>
            <a:ln w="38160">
              <a:solidFill>
                <a:srgbClr val="cb36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Freeform 6"/>
          <p:cNvSpPr/>
          <p:nvPr/>
        </p:nvSpPr>
        <p:spPr>
          <a:xfrm>
            <a:off x="7010280" y="4754520"/>
            <a:ext cx="1737000" cy="1676520"/>
          </a:xfrm>
          <a:prstGeom prst="pie">
            <a:avLst/>
          </a:prstGeom>
          <a:solidFill>
            <a:srgbClr val="ff88ba"/>
          </a:solidFill>
          <a:ln w="38160">
            <a:solidFill>
              <a:srgbClr val="ff8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6789600" y="4564080"/>
            <a:ext cx="2019600" cy="1989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33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41360" y="1310760"/>
            <a:ext cx="403848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т чего равноудален центр вписанной в треугольник окружности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8320" y="126684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т чего равноудален центр  окружности, описанной около треугольника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5151600" y="4017960"/>
            <a:ext cx="2452680" cy="2336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400720" y="4025880"/>
            <a:ext cx="2127240" cy="1887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8"/>
          <p:cNvSpPr/>
          <p:nvPr/>
        </p:nvSpPr>
        <p:spPr>
          <a:xfrm flipH="1" flipV="1">
            <a:off x="6365160" y="5104800"/>
            <a:ext cx="111240" cy="106200"/>
          </a:xfrm>
          <a:prstGeom prst="ellipse">
            <a:avLst/>
          </a:prstGeom>
          <a:solidFill>
            <a:srgbClr val="cb36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10"/>
          <p:cNvSpPr/>
          <p:nvPr/>
        </p:nvSpPr>
        <p:spPr>
          <a:xfrm flipV="1">
            <a:off x="6420600" y="4054320"/>
            <a:ext cx="39960" cy="1051200"/>
          </a:xfrm>
          <a:prstGeom prst="line">
            <a:avLst/>
          </a:prstGeom>
          <a:ln w="2844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13"/>
          <p:cNvSpPr/>
          <p:nvPr/>
        </p:nvSpPr>
        <p:spPr>
          <a:xfrm>
            <a:off x="6460560" y="5195880"/>
            <a:ext cx="1128600" cy="184320"/>
          </a:xfrm>
          <a:prstGeom prst="line">
            <a:avLst/>
          </a:prstGeom>
          <a:ln w="2844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15"/>
          <p:cNvSpPr/>
          <p:nvPr/>
        </p:nvSpPr>
        <p:spPr>
          <a:xfrm flipH="1">
            <a:off x="5380200" y="5195880"/>
            <a:ext cx="1001520" cy="731880"/>
          </a:xfrm>
          <a:prstGeom prst="line">
            <a:avLst/>
          </a:prstGeom>
          <a:ln w="2844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1398600" y="4491000"/>
            <a:ext cx="1512720" cy="1468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669960" y="3736800"/>
            <a:ext cx="2805120" cy="271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Овал 21"/>
          <p:cNvSpPr/>
          <p:nvPr/>
        </p:nvSpPr>
        <p:spPr>
          <a:xfrm>
            <a:off x="2087640" y="5181480"/>
            <a:ext cx="106200" cy="106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25"/>
          <p:cNvSpPr/>
          <p:nvPr/>
        </p:nvSpPr>
        <p:spPr>
          <a:xfrm>
            <a:off x="2149560" y="5234760"/>
            <a:ext cx="272880" cy="78444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30"/>
          <p:cNvSpPr/>
          <p:nvPr/>
        </p:nvSpPr>
        <p:spPr>
          <a:xfrm flipV="1">
            <a:off x="2179080" y="4861080"/>
            <a:ext cx="639720" cy="33624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32"/>
          <p:cNvSpPr/>
          <p:nvPr/>
        </p:nvSpPr>
        <p:spPr>
          <a:xfrm>
            <a:off x="1477800" y="4998960"/>
            <a:ext cx="702000" cy="27324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олилиния 47"/>
          <p:cNvSpPr/>
          <p:nvPr/>
        </p:nvSpPr>
        <p:spPr>
          <a:xfrm>
            <a:off x="1539720" y="4861080"/>
            <a:ext cx="182880" cy="1774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олилиния 48"/>
          <p:cNvSpPr/>
          <p:nvPr/>
        </p:nvSpPr>
        <p:spPr>
          <a:xfrm>
            <a:off x="2346480" y="5821200"/>
            <a:ext cx="190440" cy="106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олилиния 49"/>
          <p:cNvSpPr/>
          <p:nvPr/>
        </p:nvSpPr>
        <p:spPr>
          <a:xfrm>
            <a:off x="2590920" y="4724280"/>
            <a:ext cx="136440" cy="212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322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0" y="102024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де находится центр окружности, вписанной в треугольник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8320" y="960480"/>
            <a:ext cx="4038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де находится центр окружности, описанной около треугольника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Line 2"/>
          <p:cNvSpPr/>
          <p:nvPr/>
        </p:nvSpPr>
        <p:spPr>
          <a:xfrm flipH="1">
            <a:off x="5448240" y="4573440"/>
            <a:ext cx="1216080" cy="166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3"/>
          <p:cNvSpPr/>
          <p:nvPr/>
        </p:nvSpPr>
        <p:spPr>
          <a:xfrm flipH="1" flipV="1">
            <a:off x="5874840" y="4235400"/>
            <a:ext cx="2079720" cy="889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 flipV="1">
            <a:off x="6226200" y="3708360"/>
            <a:ext cx="2016000" cy="1077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6551640" y="4260960"/>
            <a:ext cx="600120" cy="166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 flipV="1">
            <a:off x="6664320" y="2606400"/>
            <a:ext cx="351000" cy="19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6664320" y="4560840"/>
            <a:ext cx="1916280" cy="6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659480" y="2556000"/>
            <a:ext cx="4082760" cy="4082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10"/>
          <p:cNvSpPr/>
          <p:nvPr/>
        </p:nvSpPr>
        <p:spPr>
          <a:xfrm>
            <a:off x="5430960" y="2593800"/>
            <a:ext cx="3168360" cy="364500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6613560" y="4522680"/>
            <a:ext cx="112680" cy="88920"/>
          </a:xfrm>
          <a:prstGeom prst="ellipse">
            <a:avLst/>
          </a:prstGeom>
          <a:solidFill>
            <a:srgbClr val="cb36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2"/>
          <p:cNvSpPr/>
          <p:nvPr/>
        </p:nvSpPr>
        <p:spPr>
          <a:xfrm>
            <a:off x="5837400" y="4973760"/>
            <a:ext cx="174600" cy="8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6451560" y="3621240"/>
            <a:ext cx="123840" cy="6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14"/>
          <p:cNvSpPr/>
          <p:nvPr/>
        </p:nvSpPr>
        <p:spPr>
          <a:xfrm flipV="1">
            <a:off x="7327800" y="3220920"/>
            <a:ext cx="20016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5"/>
          <p:cNvSpPr/>
          <p:nvPr/>
        </p:nvSpPr>
        <p:spPr>
          <a:xfrm flipV="1">
            <a:off x="7367760" y="3274920"/>
            <a:ext cx="19980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7954920" y="4248000"/>
            <a:ext cx="20016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 flipV="1">
            <a:off x="7994520" y="4302000"/>
            <a:ext cx="20016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6137280" y="587520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19"/>
          <p:cNvSpPr/>
          <p:nvPr/>
        </p:nvSpPr>
        <p:spPr>
          <a:xfrm>
            <a:off x="6203880" y="5865840"/>
            <a:ext cx="88920" cy="23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0"/>
          <p:cNvSpPr/>
          <p:nvPr/>
        </p:nvSpPr>
        <p:spPr>
          <a:xfrm>
            <a:off x="6278400" y="584028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1"/>
          <p:cNvSpPr/>
          <p:nvPr/>
        </p:nvSpPr>
        <p:spPr>
          <a:xfrm>
            <a:off x="7602480" y="539892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7669080" y="5389560"/>
            <a:ext cx="88920" cy="23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7743960" y="536400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24"/>
          <p:cNvSpPr/>
          <p:nvPr/>
        </p:nvSpPr>
        <p:spPr>
          <a:xfrm>
            <a:off x="6288120" y="4248000"/>
            <a:ext cx="187200" cy="225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25"/>
          <p:cNvSpPr/>
          <p:nvPr/>
        </p:nvSpPr>
        <p:spPr>
          <a:xfrm>
            <a:off x="7666200" y="4022640"/>
            <a:ext cx="237960" cy="136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26"/>
          <p:cNvSpPr/>
          <p:nvPr/>
        </p:nvSpPr>
        <p:spPr>
          <a:xfrm>
            <a:off x="6989760" y="5411880"/>
            <a:ext cx="274680" cy="201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1322280" y="3713040"/>
            <a:ext cx="1513080" cy="146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6"/>
          <p:cNvSpPr/>
          <p:nvPr/>
        </p:nvSpPr>
        <p:spPr>
          <a:xfrm>
            <a:off x="593640" y="2959200"/>
            <a:ext cx="2805120" cy="270972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Овал 30"/>
          <p:cNvSpPr/>
          <p:nvPr/>
        </p:nvSpPr>
        <p:spPr>
          <a:xfrm>
            <a:off x="2011320" y="4403880"/>
            <a:ext cx="1382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31"/>
          <p:cNvSpPr/>
          <p:nvPr/>
        </p:nvSpPr>
        <p:spPr>
          <a:xfrm>
            <a:off x="2079000" y="4556160"/>
            <a:ext cx="236520" cy="57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32"/>
          <p:cNvSpPr/>
          <p:nvPr/>
        </p:nvSpPr>
        <p:spPr>
          <a:xfrm flipV="1">
            <a:off x="2127960" y="4084560"/>
            <a:ext cx="614520" cy="34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ая соединительная линия 33"/>
          <p:cNvSpPr/>
          <p:nvPr/>
        </p:nvSpPr>
        <p:spPr>
          <a:xfrm>
            <a:off x="1447920" y="4084560"/>
            <a:ext cx="583920" cy="34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олилиния 35"/>
          <p:cNvSpPr/>
          <p:nvPr/>
        </p:nvSpPr>
        <p:spPr>
          <a:xfrm>
            <a:off x="2270160" y="5045040"/>
            <a:ext cx="190440" cy="1065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олилиния 36"/>
          <p:cNvSpPr/>
          <p:nvPr/>
        </p:nvSpPr>
        <p:spPr>
          <a:xfrm>
            <a:off x="2514600" y="3946680"/>
            <a:ext cx="136440" cy="2142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ая соединительная линия 40"/>
          <p:cNvSpPr/>
          <p:nvPr/>
        </p:nvSpPr>
        <p:spPr>
          <a:xfrm flipV="1">
            <a:off x="609480" y="3870360"/>
            <a:ext cx="2041560" cy="1798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ая соединительная линия 42"/>
          <p:cNvSpPr/>
          <p:nvPr/>
        </p:nvSpPr>
        <p:spPr>
          <a:xfrm flipH="1" flipV="1">
            <a:off x="1996920" y="2955960"/>
            <a:ext cx="120960" cy="2271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ая соединительная линия 44"/>
          <p:cNvSpPr/>
          <p:nvPr/>
        </p:nvSpPr>
        <p:spPr>
          <a:xfrm>
            <a:off x="1325520" y="4145040"/>
            <a:ext cx="2027160" cy="747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олилиния 52"/>
          <p:cNvSpPr/>
          <p:nvPr/>
        </p:nvSpPr>
        <p:spPr>
          <a:xfrm>
            <a:off x="853920" y="5197320"/>
            <a:ext cx="182880" cy="9072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олилиния 53"/>
          <p:cNvSpPr/>
          <p:nvPr/>
        </p:nvSpPr>
        <p:spPr>
          <a:xfrm>
            <a:off x="1173240" y="5211720"/>
            <a:ext cx="110880" cy="2588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олилиния 54"/>
          <p:cNvSpPr/>
          <p:nvPr/>
        </p:nvSpPr>
        <p:spPr>
          <a:xfrm>
            <a:off x="1905120" y="3200400"/>
            <a:ext cx="75960" cy="36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олилиния 55"/>
          <p:cNvSpPr/>
          <p:nvPr/>
        </p:nvSpPr>
        <p:spPr>
          <a:xfrm>
            <a:off x="1874880" y="3306600"/>
            <a:ext cx="106200" cy="2232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олилиния 56"/>
          <p:cNvSpPr/>
          <p:nvPr/>
        </p:nvSpPr>
        <p:spPr>
          <a:xfrm>
            <a:off x="2041560" y="3398760"/>
            <a:ext cx="244440" cy="8100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олилиния 57"/>
          <p:cNvSpPr/>
          <p:nvPr/>
        </p:nvSpPr>
        <p:spPr>
          <a:xfrm>
            <a:off x="2041560" y="3368520"/>
            <a:ext cx="214200" cy="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олилиния 58"/>
          <p:cNvSpPr/>
          <p:nvPr/>
        </p:nvSpPr>
        <p:spPr>
          <a:xfrm>
            <a:off x="3213000" y="4754520"/>
            <a:ext cx="63720" cy="1065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олилиния 60"/>
          <p:cNvSpPr/>
          <p:nvPr/>
        </p:nvSpPr>
        <p:spPr>
          <a:xfrm>
            <a:off x="3094200" y="4618080"/>
            <a:ext cx="90360" cy="2030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олилиния 61"/>
          <p:cNvSpPr/>
          <p:nvPr/>
        </p:nvSpPr>
        <p:spPr>
          <a:xfrm>
            <a:off x="3041640" y="4572000"/>
            <a:ext cx="52560" cy="198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олилиния 62"/>
          <p:cNvSpPr/>
          <p:nvPr/>
        </p:nvSpPr>
        <p:spPr>
          <a:xfrm>
            <a:off x="2927520" y="4740120"/>
            <a:ext cx="74520" cy="2732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олилиния 63"/>
          <p:cNvSpPr/>
          <p:nvPr/>
        </p:nvSpPr>
        <p:spPr>
          <a:xfrm>
            <a:off x="3021120" y="4784760"/>
            <a:ext cx="56880" cy="198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олилиния 64"/>
          <p:cNvSpPr/>
          <p:nvPr/>
        </p:nvSpPr>
        <p:spPr>
          <a:xfrm>
            <a:off x="3124080" y="4830840"/>
            <a:ext cx="23760" cy="1220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олилиния 67"/>
          <p:cNvSpPr/>
          <p:nvPr/>
        </p:nvSpPr>
        <p:spPr>
          <a:xfrm>
            <a:off x="1352520" y="4160880"/>
            <a:ext cx="231840" cy="1810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480520" cy="1407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722240"/>
            <a:ext cx="4087800" cy="18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любом описанном четырехугольнике 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7960" y="1722240"/>
            <a:ext cx="40590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любом вписанном четырехугольнике 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642960" y="389556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эти и многие другие вопросы мы вы сможете найти ответ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4"/>
          <p:cNvSpPr/>
          <p:nvPr/>
        </p:nvSpPr>
        <p:spPr>
          <a:xfrm>
            <a:off x="609480" y="387360"/>
            <a:ext cx="7177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дать понятие вписанной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дать понятие описанной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йти центр описанной \ вписанной в треугольник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йти радиус описанной \ вписанной окружности в треугольни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определить, около каких многоугольников можно описать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определить в какие многоугольники можно вписать окруж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продемонстрировать, как описать или вписать окружность в треугольник или многоуголь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стоятельно исследовать любую другую пробл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зентовать свою исследовательскую работу перед сверстниками, родителями, уч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работать коллективно, разделяя роли в команде и отвечать за результаты своего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6:15:51Z</dcterms:created>
  <dc:creator>Пользователь</dc:creator>
  <dc:description/>
  <dc:language>en-US</dc:language>
  <cp:lastModifiedBy>Поздеева Валентина Тимофеевна</cp:lastModifiedBy>
  <dcterms:modified xsi:type="dcterms:W3CDTF">2010-04-30T10:27:09Z</dcterms:modified>
  <cp:revision>31</cp:revision>
  <dc:subject/>
  <dc:title>Описанная окружность</dc:title>
</cp:coreProperties>
</file>